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1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22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0656DD7-603D-4C76-A6AD-0C7CEE5C229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339840" y="80028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74668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Sociālā uzņēmējdarbība ļauj risināt sociālās problēmas ar biznesa instrumentiem - uzņēmums ražo preces vai sniedz pakalpojumus ar mērķi risināt sociālo problēmu, nevis ar mērķi gūt finansiālu labumu uzņēmuma īpašnieki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eidojot sociālo uzņēmumu, pirmais ar ko būtu jāsāk ir izzināt mūsu sabiedrības problēmas un vajadzība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ejot no tā, definē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sava uzņēmuma sociālo mērķi (tam ir jābūt pozitīvai sociālai ietekmei un jābūt definētam statūtos vai citā līdzvērtīgā dokument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biznesa ideju, kurai tici un kura ilgtermiņā būs dzīvotspējīga (tai jānes peļņu, lai varētu konkurēt ar citiem uzņēmumiem tirgū un   investēt sociālajos uzņēmuma mērķo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D603EF6-104A-4F44-9826-E64E49D55FA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3F8A-BEDE-478F-BBD1-72F9E2AF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8D26-6B6A-42B7-BF7A-C15648A5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200E82-190D-43E0-878F-DB649D83027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47D67A-0DA1-4D27-8EF0-FF02CEF295E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931244-A5DB-4F41-8E37-2069754BE4C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438B0E-EE2B-4C57-B3EF-D403D6DCE17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20E21B-0C10-4644-913F-538B8A3D3BE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A7CAB5-6116-4B96-B9BD-33FBA3A35D4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2B09D5-BE64-42B3-9421-E3790B65C35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5E81EE-FFDD-46A7-9196-41ABA02A33E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E261A1-EACD-4DF2-8ECA-5474F14CE3D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8B47-A0D7-4E87-AB13-4B20999B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938F-CD67-4D12-A828-3BA35742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A26933-D9FB-4DA4-8AEA-6964DAF5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36AC5F-1345-4E62-8B2C-4B0D8A7D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B9BF3B-3648-4DA9-AF01-217BC8A0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7C0088-EAEA-4D75-8100-F0E7302E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A9F0B1-4F09-4199-AD3B-90C959A6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ACB3C6-72DE-4FAE-B484-B0188C2B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957D83-4FB7-4C96-997C-3DE823BA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010427-D67C-49EC-B6AA-C3AD49A8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E31967-A5A5-47DC-AD12-F536E497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81DB27-EFAF-4F17-89FB-AF21FDA5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E6B905-1958-410C-9052-6B0D8CBB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ED97E0-336E-4B7A-9B23-912CAC4C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219D66-FDD0-4586-9842-7A9A3458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9CC31F-B5FF-4F7E-8821-FC3EBA48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E1878A-B7FD-4BDC-8CE4-F82F2F1B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D17266-D8F9-4342-B81E-5D4617E1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346EAA-03C4-4DFD-92CF-604D470D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341E71-94DC-46F9-A2BC-5D95C23F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BC0A85-3E16-404D-9DC4-E9F284AD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EE2696-FDFC-4544-A387-69B23716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4C97BD-425E-4D34-A82A-16710F72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CB8A1C-2237-4790-A514-0D5CF459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548615-99F1-4EE0-B949-56623B27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6AEE91-C294-4622-954B-3DD16B0D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D9781C-5736-45F5-94CF-4C1FED1D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E9F7B3-7D6F-4E13-9497-A1324D20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1FE4F3-447C-48F0-B462-21F86334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17CB9D-9CBA-4A30-830C-FB69CCFC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930709-BD0A-4927-8E11-589BD41C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B9F6FB-53E9-4CA8-9DE0-0868C057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8CA616-1F6A-4F9E-8799-8BB1520A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D9C7D9-8856-48CA-A2D8-0430A36D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803876-1026-4467-99D2-A81A5066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76B6AB-2323-4D0D-B77A-D4661C59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FF69AE-54F0-4CE2-9B6C-52C2530D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ED7191-547C-4AF8-A139-AB405FBA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8F78-AFA1-4B63-A3E8-5937B822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12E9F-BB49-4603-9A60-2B2BAC6C04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1A256-114B-4FAA-8022-FB3C445B5C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0A1CE-D704-481D-9FDA-F7B0B1563A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15FC9-70D9-4E5E-8944-1E950D81A2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6BC35-A78A-4A4A-AA48-43F119B2DA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69FA-115F-4DF4-BC05-1327D0C9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D5867-8424-4042-AC2A-15A3BCBB26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411FB-E202-4149-9D88-B57C4CD7EB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38150-D0D7-4A25-B5A4-44BC41783B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960CD-E148-4E78-8373-9250CB75E0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88EBE-CA77-432F-A25A-9638093403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C34AC-3A6F-43C0-A3A5-FA58BCF31C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AB886-87F7-4D10-906F-9CED338C6D9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58EE7-3080-40C9-8C0C-74AB18181F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276FF-997B-4F87-AB98-EDE8A8E2AC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D5B93-6333-4882-A142-7ED001B7B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4F2E-4CB4-482A-8462-193C517C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29AC2-2D5C-4AD9-BB5A-232762DF4A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00CAB-0DDA-4B56-BEA2-B000804FE7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BBA95-A5F1-462D-9489-70408CD2969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46BD8-56B1-4D21-B30D-257438163A4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E5CD5-6B0C-4D19-93E0-B620C319051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6B183-DBAF-4D8B-A2B6-36571CDB355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4B703-A23F-4183-875C-44DEDB8FDC5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9A26D-E5A2-485C-A642-6617EEB4C5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46E26-04C0-4B1C-8913-14049493131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F127-4E70-4186-A918-C642D1B0E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4344-A46A-4E2B-8EE8-0D918F96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7271-D637-4CE2-9133-9E0FAFD741E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AE2E-FC28-4287-8926-DCF03C28C94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DEEB-5FCC-4280-AC89-D76E2CE1D83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FCBD-A970-49E5-A5C6-7791A03D6C6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1C25-EE53-461D-9E6C-FD5039ED499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53E8-75E7-4F37-83E8-509FA41F618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7A1B-4363-469E-9C88-B655477BD47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A5D5-33B3-4F0E-B476-E6F34F1F637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8742-2862-487C-855A-2E96F7CD0EE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B2E9-9B1A-4309-886D-F1401FD4B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9FD5-3E7C-426F-8CF2-F1435F0F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A9B7-A697-4B07-889F-EF0E6AC47F9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E0851C-4BDC-4D77-B67A-599FBD31D94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4D9EA4-239D-45FE-877D-13988BBF157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D41F77-5776-42E8-AE7E-ACCF4175A00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CAE107-4BDF-4EF7-B196-A3ACAC9DF85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B3C785-5C12-4059-890A-7147113D7A7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B881F3-A73F-442B-9F25-3798DD68489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B48E65-1C41-49F6-96FA-2FB255B33F9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03DBC0-2D06-486F-B6CC-2BA5B7A9480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7D08EE-B387-4C54-93DB-6085EB5D1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DCD2-186C-4F47-8310-41CDD566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C77730-2EED-4449-89ED-FAC0F8E17D3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C98D3D-BBD4-4325-A230-8B410BC8DEC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9667CC-4B6C-4FD9-9787-04E52081BB5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17D347-19D8-483B-B738-923699CC8E8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C5C03D-AA7F-4086-90FF-26842312C8B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989E6E-0BB9-4044-943F-F320179B6C0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181141-65F4-44B0-BC91-A18952F71A1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9D441-6BBF-47C9-84AE-ABC585B498F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21A89-BB78-4C1C-8B94-4874BB4BE0A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8048E-3AB9-46D3-9EB3-AE499DAEC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877A-B536-47E6-A143-68A87BA9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0BEA2A-7282-4060-AC58-4D08E40B70F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6F1C61-BFA3-4DD4-AC8A-C85DF18E421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8DEC7-5973-41E9-92FA-20D80BF0091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56949-4CBB-4D34-BB8B-16EFC35207B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F4B8D2-55AE-466F-9E94-C55B4FA36C4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250A3-D330-423C-990A-96ECC1FB4A4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2F13B-3FF2-4E2A-B104-BDA7A6A4BF1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F38A6-95EB-4297-A253-31DC4F11961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4507B-F9E3-4DF1-9D13-66DE114A524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C47BF-5D59-4727-A335-EA81FB79D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F990-E9CF-47B1-BB87-1609C684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DF9E2-C42E-4020-9DF1-DA61E590782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67CAC-C4DD-43BC-ABF1-650595CE6A9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6D1B1-B4AC-4E1A-B39E-8CDEC14F2A8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86284-1964-4172-808A-34B438ED07F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F5202-7698-4B18-B609-AEC005C8FC3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1F930-63B0-48BB-B3C5-B06631BB52F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E3C7F-7D19-4F11-8733-4C559F24DB2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53A4E8-AF6D-4BAA-B71A-88AF0925920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478C58-B8B1-48E3-99B1-AB5DF6C0A5E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B3DF64-ECE6-4F20-8316-5A4806C6F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949B53F-4B69-4E1F-87B7-A42B9E4650C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63EF5B5-DCC8-44BB-B72F-34E71E2193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3FB7F27-A6BC-42D1-9996-853EC64AA40A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1080807-D6BA-4F4C-A339-BB8D24B747E5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330691C-F6E3-4747-A3E6-F5D40D64EE9D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4D4DC8A-85E6-43E2-818B-FB92A6BB0048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F93364C-8A35-4E44-8B88-CE2BFBF72E63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7ECE631-6D58-4F3A-AAF7-ADC957215BCD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DFB94F9-4E79-4C94-89ED-9BFB83E103E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FDA5190-205F-4D9D-8B64-C9F1E7141B2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1DE17A1-AB9C-46A1-8FB3-9DC86C35AB4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66882A4-49CB-469F-91A1-345CB85620F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1A4D3BC-916E-44F7-BC88-9A8993E7CB2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9191C11-3075-407D-8C33-FF3F1FC2D4D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B5C2666-2F73-4306-BA8D-18823961CC4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66880" y="281304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projekta</a:t>
            </a:r>
            <a:br>
              <a:rPr sz="1900"/>
            </a:b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«Atbalsts sociālajai uzņēmējdarbībai»</a:t>
            </a:r>
            <a:r>
              <a:rPr b="1" lang="lv-LV" sz="2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br>
              <a:rPr sz="2600"/>
            </a:br>
            <a:r>
              <a:rPr b="1" lang="lv-LV" sz="1100" spc="-1" strike="noStrike">
                <a:solidFill>
                  <a:srgbClr val="404040"/>
                </a:solidFill>
                <a:latin typeface="Verdana"/>
                <a:ea typeface="Verdana"/>
              </a:rPr>
              <a:t>vienošanās Nr. 9.1.1.3/15/I/001 </a:t>
            </a:r>
            <a:br>
              <a:rPr sz="700"/>
            </a:br>
            <a:br>
              <a:rPr sz="1900"/>
            </a:br>
            <a:br>
              <a:rPr sz="1600"/>
            </a:br>
            <a:br>
              <a:rPr sz="2000"/>
            </a:br>
            <a:br>
              <a:rPr sz="2200"/>
            </a:br>
            <a:br>
              <a:rPr sz="1900"/>
            </a:br>
            <a:br>
              <a:rPr sz="1900"/>
            </a:br>
            <a:br>
              <a:rPr sz="1700"/>
            </a:br>
            <a:br>
              <a:rPr sz="1700"/>
            </a:br>
            <a:br>
              <a:rPr sz="13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8640" y="587988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2128680" y="4994280"/>
            <a:ext cx="52484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30040" y="1116000"/>
            <a:ext cx="68180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par projekt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1866600"/>
            <a:ext cx="91137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s tiks īstenot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darbības programmas „Izaugsme un nodarbinātība” 9.1.1. specifiskā atbalsta mērķa „Palielināt nelabvēlīgākā situācijā esošu bezdarbnieku iekļaušanos darba tirgū” 9.1.1.3.pasākuma «Atbalsts sociālajai uzņēmējdarbībai»  ietvar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tāj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Labklājības ministrij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partneri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pt-BR" sz="1700" spc="-1" strike="noStrike">
                <a:solidFill>
                  <a:srgbClr val="404040"/>
                </a:solidFill>
                <a:latin typeface="Verdana"/>
                <a:ea typeface="Verdana"/>
              </a:rPr>
              <a:t>AS "Attīstības finanšu institūcija Altum"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lānotās izmaksa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0" lang="lv-LV" sz="1700" spc="-1" strike="noStrike">
                <a:solidFill>
                  <a:srgbClr val="404040"/>
                </a:solidFill>
                <a:latin typeface="Times New Roman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19 920 206</a:t>
            </a:r>
            <a:r>
              <a:rPr b="0" i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euro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šanas laik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2016.gada 4.janvāris - 2022.gada 31.decembri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AD32E24-8779-4327-9803-E37FD5B9EAA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6" descr=""/>
          <p:cNvPicPr/>
          <p:nvPr/>
        </p:nvPicPr>
        <p:blipFill>
          <a:blip r:embed="rId1"/>
          <a:stretch/>
        </p:blipFill>
        <p:spPr>
          <a:xfrm>
            <a:off x="6969240" y="-68400"/>
            <a:ext cx="170172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8380349-175E-45CA-A16F-76845A20E4B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44200" y="780840"/>
            <a:ext cx="5992920" cy="1083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Kas ir sociālā uzņēmējdarbīb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582480" y="1515960"/>
            <a:ext cx="818208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ā uzņēmuma izveides mērķis ir vērsts uz sociālo vai sabiedrībai nozīmīgo problēmu risināša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ir tirgus dalībnieki, kas ražo preces un sniedz pakalpoju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gūto peļņu investē sociālā mērķa sasniegšan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Tiek nodarbināti algoti darbiniek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sociālajos uzņēmumos, kuru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sabiedrībai svarīgas sociālas problēmas risināj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un nodarbināti darbinieki, ar kuriem nodibinātas darba tiesiskās attiecīb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darba integrācijas uzņēmumi - sociālo uzņēmumu veids, kuru galvenais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riska grupu nodarbinātīb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– integrācija darba tirg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8" descr=""/>
          <p:cNvPicPr/>
          <p:nvPr/>
        </p:nvPicPr>
        <p:blipFill>
          <a:blip r:embed="rId1"/>
          <a:stretch/>
        </p:blipFill>
        <p:spPr>
          <a:xfrm>
            <a:off x="7547040" y="111240"/>
            <a:ext cx="145260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3160" y="488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4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Content Placeholder 7" descr=""/>
          <p:cNvPicPr/>
          <p:nvPr/>
        </p:nvPicPr>
        <p:blipFill>
          <a:blip r:embed="rId1"/>
          <a:stretch/>
        </p:blipFill>
        <p:spPr>
          <a:xfrm>
            <a:off x="7151760" y="446040"/>
            <a:ext cx="1009440" cy="1063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12800" y="1712880"/>
            <a:ext cx="7920000" cy="440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ir noteikt un pārbaudīt optimālus risinājumus sociālo uzņēmumu izveidei un attīstībai, tai skaitā darba integrācijas sociālo uzņēmumu atbalstam, lai palielinātu nodarbinātības iespēja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nelabvēlīgākā situācijā esošiem bezdarbniekie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personām ar invaliditāti un personām ar garīga rakstura traucējumiem</a:t>
            </a:r>
            <a:r>
              <a:rPr b="0" lang="lv-LV" sz="1400" spc="-1" strike="noStrike">
                <a:solidFill>
                  <a:srgbClr val="404040"/>
                </a:solidFill>
                <a:latin typeface="Verdana"/>
              </a:rPr>
              <a:t>.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ietvaros tiks izveido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balsta sistēm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ietver sociālo uzņēmumu atlases kritērijus un atbalsta instrumentus. Tāpat atbalsta sistēmas ietvaros izstrādāts pasākuma dalībnieku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s un uzsākts reģistrācijas process, kurā varēs iesaistīties komersanti, biedrības un nodibināju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s ļaus noteikt efektīvākās atbalsta formas sociālo uzņēmumu attīstībai, lai tiktu veidoti jauni uzņēmumi, radītas darba vietas un ieviestas jaunas un efektīvas pieejas sociālu problēmu risināšanā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78E6EDE-B5C8-4D5A-A4FC-5BA799F99FE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71680" y="509400"/>
            <a:ext cx="651816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0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aktivitā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7160" y="1531440"/>
            <a:ext cx="8364240" cy="562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biedrības izpratnes veidošanas un izglītošanas pasākum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r jaunā projekta iniciatīvu, par sociālās uzņēmējdarbības pazīmēm/kritērijiem, par atbalsta sniegšanas iespējām sociālajai uzņēmējdarbībai un šādas uzņēmējdarbības  pieredzi, projekta mērķa grupu un sabiedrības informēšana saistībā ar projekta uzsākša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(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)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a izstrāde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- projekta rezultātā izstrādāti un ieviest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zīmes/kritērij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pazīstamība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 atlase un reģistrācija (īsteno LM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atbalsta sniegšan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mersantiem, biedrībām, nodibinājumiem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ALT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 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balsta sniegšana sociālās uzņēmējdarbības uzsācējie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ideju konkursa organizēšan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nsultāciju nodrošināšana sociālās uzņēmējdarbības uzsācēju biznesa plānu izstrāde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90560" y="6629400"/>
            <a:ext cx="198108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76920" y="6583320"/>
            <a:ext cx="365760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AAC2A18-2B46-4A1C-AE71-3FC794BE608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6" descr="Attēlu rezultāti vaicājumam “photos for registration”"/>
          <p:cNvPicPr/>
          <p:nvPr/>
        </p:nvPicPr>
        <p:blipFill>
          <a:blip r:embed="rId1"/>
          <a:stretch/>
        </p:blipFill>
        <p:spPr>
          <a:xfrm flipH="1" rot="18840000">
            <a:off x="7716240" y="243360"/>
            <a:ext cx="1182600" cy="1182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8" descr=""/>
          <p:cNvPicPr/>
          <p:nvPr/>
        </p:nvPicPr>
        <p:blipFill>
          <a:blip r:embed="rId2"/>
          <a:stretch/>
        </p:blipFill>
        <p:spPr>
          <a:xfrm>
            <a:off x="7989840" y="4873680"/>
            <a:ext cx="1022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64880" y="550800"/>
            <a:ext cx="6751800" cy="104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ieteikšanās reģistrācijai </a:t>
            </a:r>
            <a:br>
              <a:rPr sz="2400"/>
            </a:b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un a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ヒラギノ角ゴ Pro W3"/>
              </a:rPr>
              <a:t>tbalsta saņemšana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D0115DA-6CD4-4E04-B435-F692BC2965C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1211400" y="2538360"/>
            <a:ext cx="1638000" cy="1636920"/>
          </a:xfrm>
          <a:prstGeom prst="rect">
            <a:avLst/>
          </a:prstGeom>
          <a:ln w="0">
            <a:noFill/>
          </a:ln>
        </p:spPr>
      </p:pic>
      <p:cxnSp>
        <p:nvCxnSpPr>
          <p:cNvPr id="560" name="Straight Arrow Connector 7"/>
          <p:cNvCxnSpPr/>
          <p:nvPr/>
        </p:nvCxnSpPr>
        <p:spPr>
          <a:xfrm flipV="1">
            <a:off x="3018240" y="2562840"/>
            <a:ext cx="930240" cy="3434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1" name="Picture 10" descr=""/>
          <p:cNvPicPr/>
          <p:nvPr/>
        </p:nvPicPr>
        <p:blipFill>
          <a:blip r:embed="rId2"/>
          <a:stretch/>
        </p:blipFill>
        <p:spPr>
          <a:xfrm>
            <a:off x="4199040" y="1919160"/>
            <a:ext cx="1141200" cy="1116000"/>
          </a:xfrm>
          <a:prstGeom prst="rect">
            <a:avLst/>
          </a:prstGeom>
          <a:ln w="0">
            <a:noFill/>
          </a:ln>
        </p:spPr>
      </p:pic>
      <p:cxnSp>
        <p:nvCxnSpPr>
          <p:cNvPr id="562" name="Straight Arrow Connector 9"/>
          <p:cNvCxnSpPr/>
          <p:nvPr/>
        </p:nvCxnSpPr>
        <p:spPr>
          <a:xfrm>
            <a:off x="4876560" y="3123720"/>
            <a:ext cx="1080" cy="963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3" name="Picture 11" descr=""/>
          <p:cNvPicPr/>
          <p:nvPr/>
        </p:nvPicPr>
        <p:blipFill>
          <a:blip r:embed="rId3"/>
          <a:stretch/>
        </p:blipFill>
        <p:spPr>
          <a:xfrm>
            <a:off x="4199040" y="414972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564" name="Straight Arrow Connector 11"/>
          <p:cNvCxnSpPr/>
          <p:nvPr/>
        </p:nvCxnSpPr>
        <p:spPr>
          <a:xfrm>
            <a:off x="3019320" y="4013280"/>
            <a:ext cx="953280" cy="3589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5" name="Content Placeholder 8"/>
          <p:cNvSpPr/>
          <p:nvPr/>
        </p:nvSpPr>
        <p:spPr>
          <a:xfrm>
            <a:off x="5673600" y="1797120"/>
            <a:ext cx="28051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1f497d"/>
                </a:solidFill>
                <a:latin typeface="Verdana"/>
              </a:rPr>
              <a:t>Labklājības ministr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reģistrēja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LM pasākuma dalībnieku reģistr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Content Placeholder 8"/>
          <p:cNvSpPr/>
          <p:nvPr/>
        </p:nvSpPr>
        <p:spPr>
          <a:xfrm>
            <a:off x="835200" y="4305240"/>
            <a:ext cx="244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Verdana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1f497d"/>
                </a:solidFill>
                <a:latin typeface="Verdana"/>
              </a:rPr>
              <a:t>Komersants, biedrība, nodibināj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5562720" y="4149720"/>
            <a:ext cx="2728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iesniedz biznesa plān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ALTUM (vērtē ALTUM) un sociālās ietekmes apraksts (vērtē LM),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tiek slēgts līgums par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finanšu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atbalsta saņemša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50920" y="544320"/>
            <a:ext cx="6096240" cy="1035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Turpmāk plānotās aktivitātes 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39760" y="1795320"/>
            <a:ext cx="6718320" cy="4510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800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tlaban norisinās darbs pie Ministru kabineta noteikumu grozījumu izstrādes 2015.gada 11.augusta noteikumiem Nr.467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Darbības programmas "Izaugsme un nodarbinātība" 9.1.1. specifiskā atbalsta mērķa "Palielināt nelabvēlīgākā situācijā esošu bezdarbnieku iekļaušanos darba tirgū" 9.1.1.3.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"Atbalsts sociālajai uzņēmējdarbībai"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īstenošanas noteikumi» ietva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ācij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sākuma dalībnieku reģistrā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n atbalsta saņemšana ALTUM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sies </a:t>
            </a:r>
            <a:r>
              <a:rPr b="1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ēc MK noteikumu Nr.467 grozījumu stāšanās spēk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7AC5D00-7594-41D5-8DCD-8D49A2ABB09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6" descr=""/>
          <p:cNvPicPr/>
          <p:nvPr/>
        </p:nvPicPr>
        <p:blipFill>
          <a:blip r:embed="rId1"/>
          <a:stretch/>
        </p:blipFill>
        <p:spPr>
          <a:xfrm>
            <a:off x="7186680" y="3838680"/>
            <a:ext cx="1728720" cy="1726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2"/>
          <a:stretch/>
        </p:blipFill>
        <p:spPr>
          <a:xfrm>
            <a:off x="6878520" y="1365120"/>
            <a:ext cx="22654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28880" y="603000"/>
            <a:ext cx="7129440" cy="88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biedrībām un nodibinājumi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93760" y="1638360"/>
            <a:ext cx="8393040" cy="4991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2016.gada 15.decembrī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R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eimā  pirmajā lasījumā  pieņem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lik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aredz, ka sociālā uzņēmuma statusu Latvijā varēs iegūt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komersan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(plānotā spēkā stāšanās 2018. gada 1. janvārī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ikuma apstiprināšanas un spēkā stāšanās gadījumā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rojekta ietvaros 2017.gadā būs noslēguši līgumu ar «Altum» par finanšu atbalsta saņemšanu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varēs turpināt darboties esošajā biedrības un nodibinājuma statusā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līguma darbības laikā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kārtotai pretendēšanai finanšu atbalsta saņemšanai projekta ietvaro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no 2018. gada 1. janvāra, biedrībai un nodibinājumam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būs jāpārreģistrējas par komersantu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skaņā ar jauno liku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 tiks informēt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r iespējamām izmaiņām projekta ietvaros un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tālāko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īcību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E51FDF9-7E98-499B-8478-884920439BF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66480" y="3225600"/>
            <a:ext cx="8289720" cy="2508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lv-LV" sz="2800" spc="-1" strike="noStrike">
                <a:solidFill>
                  <a:srgbClr val="404040"/>
                </a:solidFill>
                <a:latin typeface="Verdana"/>
                <a:ea typeface="Verdana"/>
              </a:rPr>
              <a:t>Pald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Raitis Bukovskis</cp:lastModifiedBy>
  <cp:lastPrinted>2017-01-24T12:45:49Z</cp:lastPrinted>
  <dcterms:modified xsi:type="dcterms:W3CDTF">2017-02-13T09:51:00Z</dcterms:modified>
  <cp:revision>420</cp:revision>
  <dc:subject/>
  <dc:title>PowerPoint Presentation</dc:title>
</cp:coreProperties>
</file>